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ED1-1B7F-40F5-AAFE-41F299AF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F447-CF91-442D-8FF2-BD71D57D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B61-46D8-4AA9-8E2B-B46B91F6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8A3-8F14-46E8-8966-B615FC79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AE5-EE13-45E3-89A6-E6A6ABF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C4A-FE89-47FC-8C0A-685EF422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BE6-D02B-483C-BCCA-45D90442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72D-375F-4E2A-8000-743D968C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D951-DD1F-444C-8DDE-2997E28A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87C-FBED-4B4D-8BB2-6EEB1A2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217-E70E-40B4-A5F8-AE0E9A1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EC0-7AF9-457D-BE17-7EB970D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170E-4458-4D7E-8EFE-34A2C008B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/index.php?title=Religious_malpractice&amp;action=edi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579096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CTION"/>
                <a:ea typeface="ACTION"/>
              </a:rPr>
              <a:t>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CTION"/>
                <a:ea typeface="ACTION"/>
              </a:rPr>
              <a:t>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5715000"/>
            <a:ext cx="4038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by Justin Low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96216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verside Chaucer. Houghton Mifflin Co. 1987. F.N. Robinson, 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Canterbury Tales: Critical Overview". 2005. 19 Feb 2008. &lt;http://www.bookrags.com/studyguide-canterburytales/crit.html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Canterbury Tales." 19 Feb 2008 &lt;http://en.wikipedia.org/wiki/The_Canterbury_Tales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Cha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somewhere between 1342-1345 and died on October 25, 14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ucer married Phillippa who bore him 2 sons and a daugh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fluent in French and Lat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ro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Canterbury Ta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1380s until the late 139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his 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left home and became a page when he was fourt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he got older, he work in the government, helping various rich men and k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to Italy a lot on business and met a Petr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he became familiar with Italian stories and po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15440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"/>
              </a:rPr>
              <a:t>About </a:t>
            </a:r>
            <a:r>
              <a:rPr b="1" i="1" lang="en-US" sz="4000" spc="-1" strike="noStrike">
                <a:solidFill>
                  <a:srgbClr val="000099"/>
                </a:solidFill>
                <a:latin typeface="comic"/>
              </a:rPr>
              <a:t>The</a:t>
            </a:r>
            <a:r>
              <a:rPr b="1" lang="en-US" sz="4000" spc="-1" strike="noStrike">
                <a:solidFill>
                  <a:srgbClr val="000099"/>
                </a:solidFill>
                <a:latin typeface="comic"/>
              </a:rPr>
              <a:t> </a:t>
            </a:r>
            <a:r>
              <a:rPr b="1" i="1" lang="en-US" sz="4000" spc="-1" strike="noStrike">
                <a:solidFill>
                  <a:srgbClr val="000099"/>
                </a:solidFill>
                <a:latin typeface="comic"/>
              </a:rPr>
              <a:t>Canterbury 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nterbury Tales is a collection of stories.  Two written in prose and the rest are written in 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 the stories are contained inside a frame tale which are told by several pilgri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me of the tales are serious and others com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9568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KEEM"/>
                <a:ea typeface="AKEEM"/>
              </a:rPr>
              <a:t>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The themes of the tales vary, and include topics such as courtly love, treachery, and avari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Religious malpractice is a major them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Also, focusing on the division of the three estates (nobility, clergy, and commoners) are a big part of the tal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askerville Old Face"/>
              </a:rPr>
              <a:t>The genres also vary, and include romance, Breton lai, sermon, beast fable, and fabliaux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99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pilgrims are traveling from Southwark to Canterbury to visit the Shrine of Saint Thomas Bec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ople come from all layers of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ecide to entertain themselves to kill time and tell each other stories while riding on their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anterbury T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952880" cy="459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IBI"/>
                <a:ea typeface="ALIBI"/>
              </a:rPr>
              <a:t>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General Prolog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Knight's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ille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Reeve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ook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an of Law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Wife of Bath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ia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ummone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lerk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erchant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quire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nklin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hysician's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ardoner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hipman's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rioress'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ucer's Tale of Sir Top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Tale of Melibe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onk's Prologue and Ta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n's Priest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Second Nun's Prologue and Ta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anon's Yeoman‘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Manciple's Prologue and Ta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arson's Prologue and Tal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ucer's Retrac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es in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was originally intended that each character in the story tell four tales (two on the way to Canterbury and two coming 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is had happened, there would have been a possible 120 total sto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would have been way more than the 24 stories actually writt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25880" y="1371600"/>
            <a:ext cx="39960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Significance of </a:t>
            </a:r>
            <a:r>
              <a:rPr b="1" i="1" lang="en-US" sz="4000" spc="-1" strike="noStrike">
                <a:solidFill>
                  <a:srgbClr val="000000"/>
                </a:solidFill>
                <a:latin typeface="Baskerville Old Face"/>
              </a:rPr>
              <a:t>The Canterbury 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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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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MILE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MILES"/>
                <a:ea typeface="MILES"/>
              </a:rPr>
              <a:t>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4:33:04Z</dcterms:created>
  <dc:creator>Preferred Customer</dc:creator>
  <dc:description/>
  <dc:language>en-US</dc:language>
  <cp:lastModifiedBy>Preferred Customer</cp:lastModifiedBy>
  <dcterms:modified xsi:type="dcterms:W3CDTF">2008-02-20T05:58:04Z</dcterms:modified>
  <cp:revision>2</cp:revision>
  <dc:subject/>
  <dc:title>Canterbury Tales  by Geoffrey Chaucer</dc:title>
</cp:coreProperties>
</file>